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88D-0464-4108-A3EC-1A54BA63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FA5-6F80-4F62-AA6A-C1C0143F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3FF9E-0622-417D-AB65-B0AF34C0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899BC-B6F1-4FFB-AC11-8F5CC5FC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AAE3E-A6B9-4200-B4C5-7902E9F4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DC432-C0D3-45BD-8AF5-CB80FA4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FEC6D-0CFC-41C5-BE3C-38A3F9A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70A54-D1DD-4AF3-AD5C-1C15526A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4132B-14BC-4635-9737-06A84BE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09274-200B-4167-87F2-A093FFD2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03B95-0F0C-462D-8307-AF81B3DD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A2CF7-2FD1-42FE-A725-D005C885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88F-EC92-4C45-9EF8-6BFE49C8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95AF4-C61A-455D-93F0-B2D706F3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009E4-0114-49C4-AB48-FBE8D8E0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C636C-E666-4B17-9790-38FFA7EC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5759F-2717-4C6D-8CFA-457E8508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E9258-4975-4462-A579-C7FB1403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AD0A0-B88C-4BEC-ADAA-5E52C0C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58EC6-AC33-49FF-BEF6-D139F42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8EF0B-0843-429B-9767-0F7EDDBF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4A38B-9B27-4E9F-AD9B-0E7BA72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86111-60E5-46C3-99FF-2A61EEF1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717-F8CA-443A-9F05-DBF3659E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6315A-CFA3-4DAF-AC35-6743A09D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16E9EE-036F-440E-855D-C1F6691F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A0D6C1-FF13-4FBA-9343-792B6CE9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6A0080-DC06-4AFE-94EE-15CE241B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AF7A08-1849-441B-AC35-A3EC1232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A7A243-4256-4478-9223-9A8EB0C7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C78342-EB54-4E83-9CF8-B709061B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B9171B-2C1F-4EBE-816B-D92B8678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7FF726-D1A2-4A71-8734-6100EE6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5AD7E4-2679-4EEC-B4DF-4C6751A8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B3CEB8-1CC9-4C49-B009-588C631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17FFB2-50DA-4C34-B1FE-52A158AB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7DC27D-0AAE-42A8-98DB-36390E5B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1B3DE-4A13-402C-9C32-0660EBA7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7C157-504D-4DD5-96D5-5F55060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4306B-EC70-4AC5-A784-66AFC03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C38F9-C259-41F8-9CE1-D1410BA6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AFE70-0939-4D74-AF83-EB70201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3B1A4-623F-46C5-BEC8-6143F3BB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8AA6D-2665-4967-87E0-686C5D9B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56E16-967A-458E-86FD-2A1C9E6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03692-2C8E-43A3-A226-9FB5494E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6E1AD-FFF0-40BC-ADAD-7C462045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B5CA5-00CE-46B9-8337-E3B230F3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E5DE3-AE06-4982-BA87-11C3B01D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02C421-025B-4A03-8F02-F6F7AD71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858394-5F26-4457-880F-E85598AA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425205-5CCD-4E60-83F6-A6B6097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CDAC0F-ED22-46C1-A00D-CECFB585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DA27AD-CAD0-4828-98DF-12F23CF4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1820DB-49A5-40EE-B733-D0B92091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666B3E-951A-4E0C-974D-3BFDEC16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A89BF2-5026-41A2-A06B-25C0F71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7CFEBD-16D8-4E7D-A15D-7B7022D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AD8003-5417-4804-B36A-EADB9C26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D37823-2235-4B35-AD48-471CED51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B7F963-E457-4493-836B-E8F3D2B5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630AE-4D50-47BF-8A07-0CCB09AE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AB8BB-D869-408C-8C99-1009E97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C8675-7032-4030-8E52-7C53E123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8CEDE-11FE-43F1-8847-80B46A14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7F167-05CB-4210-8A5B-7F3B7C4D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C094A-3982-4D0C-9710-D9C22243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5D9CA-5CE0-4BE7-BC6E-B06CC534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ED5A7-1673-47D0-9FFF-2DEFE8A7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6704D-67A5-4DFB-90AA-284A7A00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926D5-5558-4151-8D66-35D05374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E8AA9-F5ED-4229-966A-BEFE67CB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E2A2E-4D41-414B-A93E-CABD261C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B0CFE-FC6A-48AE-A48A-76DAE3FD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C03BB-2C2E-4E97-8213-A6139D07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F7645-B454-48FB-8114-DD1692B2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55DB7-8430-4409-9195-E8C50FA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DC403-C76B-4632-9521-B6B855E0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45E97-8A30-4CD0-995D-B1DAC7CB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CB7BB-444B-42BC-B8EB-F6DB2E4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91B1E-76FB-4DAC-8BEF-9B6D922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E1CA0-5DFF-4FE9-BDDF-6F60259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019B6-831D-40D6-A974-5E840DCD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21969-E14E-4367-BFC4-85417B3E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C4F41B-9138-46EB-A72D-4D0F6248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8834D-3313-4C12-BFB1-FB970D0F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79441-9A9E-4D91-AC28-8F4DEE5C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B777B-07C5-43B0-81AD-9A5CB12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760F0-A7C1-40C5-91D9-379CB22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26392-D176-4B6E-8BFD-488428F7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071A3-F550-403F-9165-EC89B879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12D3F-5A8A-42C5-8D50-772B3934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439-F80E-4EB1-B464-C23D130C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3BDEA-6FF1-419B-9860-7A6D827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71CD0-C209-4CA2-92AE-22B20EF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7BB1E-A9AA-4ADF-BB9D-BB8432B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379625-AFC0-4DC1-9188-06783AA5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6DFDD-1D8C-4090-84D7-E7533045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042FE-C67D-4AC7-BA05-EC53C5B2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83DFE-0088-4C77-9ACA-D277DAA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DC983-1A9E-48A7-8960-272FCB19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78D83-48D2-406F-B319-86D73B9C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0049B-93EE-419B-860E-E875F6DE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81C52-4FA6-49C7-A5A7-08E4580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593C3-BE5E-4CAE-A2D6-A6A297C7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09DA9-4E4E-4280-9EC4-841519DF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5C72B-9125-47D3-8D44-761BDE4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1D571-98F8-4E80-BEC7-17A7E688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40C9E-FBB9-4CB1-8D26-39E56711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6EAD1-C9BF-4340-A227-EB248284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3570A-663B-4718-90C9-8C2ED45D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1FA1A-C7BF-42E8-8091-591DB8E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597EEC-73E0-40CA-8C2D-ADEA5309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73B5C-FF7E-4BE4-9407-353141B4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B63C2-D462-4E6F-B368-F4390889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C28A9-1D33-41EA-9CCB-E8F79DFE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570E3-68CB-4D40-A811-741157B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7E77E-A2BD-457A-96E5-1001A04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AD1C5-6BD2-4053-8A36-8AD0C20C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55B14-A62E-438C-BF25-A5FD8031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FACB9-C1F5-418C-A6E7-B10D2AA8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054B6-0B01-4225-8F36-D8214798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1A6D0-D5E4-4096-A01E-12B808B4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788BB-9B3C-4175-B7CC-82715FC9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F51556-B19D-49CE-A34C-3494A6C9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F1ECF-76FD-44A2-B6F0-077AAEDA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ACF70-1C80-4A8C-ABBF-974F117F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92F8C9-6BE7-465C-91B4-11BF7801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F6E52-79E7-46BC-9198-F58582D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85255-8B0F-48B5-BCAD-C43451E3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5DDCA-8BD9-4B2A-86E8-E7E6975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ADEEB-3401-4885-8379-6CF4E55F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7FDE8-DD5E-4977-B3D9-83DC4C87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C8950-3ACB-453D-BDF2-E9E36886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7750F-6F7D-4D47-8E30-86560B48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9C52F-B416-4464-B75A-09681B82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F6FF0-5DC4-46D7-86C2-5BF9E2CD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2D284-347D-481E-BBA4-6D85BA39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6E484-B4FA-4E21-BFF4-23F4BB3A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4831D-FEA1-4F84-9688-73EDBCB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F38E6-0DCE-4916-ABBE-2418966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58D670-9ACD-4BBD-A964-F26BE88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EC79DF-F33B-4D94-8218-E0679EB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23D11-41AA-4E29-B75F-F4773708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78D61-D93C-4C2E-923A-69E8F37F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7DAA17-3D81-4826-A8AD-9F69700A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26D5BD-B9A6-4123-A1F7-3AF7A8B7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BD5B8-FF57-4F6B-AF6A-6410615C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050E9-DF60-4BE5-B944-2F6F3FC8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A393D-F13B-4F42-AB0D-C9E8B809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9F2B6-79AB-4902-816C-D989AAD3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1E6-A321-4752-938C-0F89193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5D39D-D2EF-4139-AFEA-EB90CC34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101F7-4674-4B47-9846-AF323EB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E1452-EA9E-4AA9-9C1C-C801FA0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B99C8-03DF-405A-9C85-9785BDB0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6F00E-2168-410E-89AE-BF66B1EF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1B7EE-A7EA-4EF5-938E-A240CAB5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ED848-3EDA-43B4-89BE-1C0D761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ED110-57BE-4503-BC57-D2B19100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BD59A-8837-4D14-BF5B-FA4E75F3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9F83D-9751-41A2-A527-92F79FDC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5BF-FC3A-441C-9569-BFF06F6A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BB52E-67D2-4B68-8336-31BF7521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92659-3B12-427C-BFE1-1E5794BD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18138-F5A8-46FE-8612-DE18D6EA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DC891-85E2-47A2-A7F8-9A84085D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F9379-1001-4B8C-8BAB-B34A35A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8C08E-8DB4-4A64-A2CA-64AC916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00326-CF2B-43C6-9603-2585C748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04194B-0E7C-4212-97BC-B37BDF1D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DC25F-B99A-46DA-98FE-454AEAE1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393-2420-4B32-A22F-35685461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1E1-2D0F-49B7-9AC7-E0C9CF1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CECDA-6E88-45D5-A51B-3A4F9F18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D2B02F-243B-4F96-B0FD-0DE3FF9C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C5AB4-C366-455F-8339-229EC64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26952-EEF6-422E-9F82-0E94E589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52F142-7CD5-4837-9AB2-36910B97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A318BC-B0F4-4925-BC52-97CB7FE8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288257-BBAD-4F78-B326-9BB1166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CF600-9A44-4FCE-802D-3881DFA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244230-4D19-4A93-B1DA-DA554BA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390-155F-4BE9-A754-DCFD7D1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4515C6-BEA3-4A72-9CD1-A45DDED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37030D-33FA-4637-8E59-64F9D68F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2BA05-4C20-4E81-BCE9-A98DF1D2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B8C90C-1804-42DE-B40F-073C95FC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F3969-8744-4061-AB5E-53C7415D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815234-1396-4F30-9DFB-CD10D049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B0221A-4E53-46F0-97CE-07ED2067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F3B7F1-B244-4D2B-AC28-B35AB6D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3F6C57-C0D0-4A26-920A-0CEC4AB1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FEDBCC-EFCF-43D1-A469-69A1E0EA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D5A-1377-413C-A526-3619804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98D908-4378-460B-86BB-3772297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369CC4-8ACD-455A-AA1E-DD4E8D4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3AD7A-C21C-4166-A308-42314DF0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D301F5-1ECA-4DC4-8164-0E70E904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B6027-12F4-4B02-B40A-FB088104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0FABAC-3728-480D-B000-12280F3B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7EEAE5-39CA-46C6-9EE7-FFCEE2F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6A34A-12D9-4434-B399-ADE254FA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F7F208-7F04-4CC8-A91E-EC55BAA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547B1F-D446-4606-A4C5-B46D409F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A6B-0C98-46C4-A2D7-2401781F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948C30-037A-44CE-9D4E-AAD5334B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75DA07-AEF9-426B-A443-E994F564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E1FFA2-7D08-4A36-9862-B2CDF10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3BB2E-521C-481E-B950-CD569450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2879C-2AB6-444A-868E-46F571C2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2DABA-1013-48CE-951C-1915AD4A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9215A4-1749-4FFC-9938-547BD191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2E033-F6F1-4476-9C4C-D74225C4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96604-C81D-4937-B69B-84E2148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C485A-ED19-4DBD-8846-9431ADB8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C28-626E-4EE7-B985-FA846EACF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7BB1-331B-4D4C-90A8-6DB33F5E2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0A5F-7A1B-417E-A64B-7991C0505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9A3-7255-4CE9-B924-6ACCB87B4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23C5-AC63-4D87-BDF0-0F4F62C66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5470-1D9E-489E-8E0F-8A9867CD4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2C95-318B-4DB2-B057-6A29A2A48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D3B6-13EA-42CB-9FA4-1466EB628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18B0-B890-471A-9F80-1AF1D612C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4AAC-A90C-497F-801D-1DC9055B3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6D6C-287C-43A8-A996-18ED05A75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CF0A-99E1-4EB4-8FC9-1D0BD9A5E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99D3-BC8E-40D3-8982-FB28FE1ED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A785-CD54-475D-BB67-545FAE056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8E45-AA29-4821-8E74-4CAAD373C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3CA0-10BD-43D9-B628-B2D14A2F0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CA39-AFBB-4A6C-B884-7E0A4E841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4E15-AF8D-46E8-AA4E-D5BA80C5C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Les Verbes Irrégulier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Au prése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Faire ET Alle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FAIRE - TO DO/TO 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ALLER – TO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f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fa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all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a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all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f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v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ouvoir ET Voulo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OUVOIR – TO BE ABLE 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VOULOIR – TO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p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v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p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v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pe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ve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ou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l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ou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l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peu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veu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ortir ET Part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ORTIR – TO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ARTIR – TO LE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p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p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sor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par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sort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part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sor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par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evoir ET Ven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DEVOIR – TO HAVE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VENIR – TO 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d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vi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d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vi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d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v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de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ven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de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ven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oi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ien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avoir ET Connaît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498600" y="1981080"/>
          <a:ext cx="7556400" cy="286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64260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AVOIR – TO KNOW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Rockwell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CONNAÎTRE – TO KNOW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Rockwell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11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s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con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sa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con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1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s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nnaî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1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sa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connais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3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sa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connaiss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044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sa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connais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ire ET Di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LIRE –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DIRE – TO 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d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d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l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d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lis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li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di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rendre ET Mett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RENDRE – TO T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METTRE – TO 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pr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m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pr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m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pr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pren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met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pren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mett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en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met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Écrire ET Vo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ÉCRIRE – TO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VOIR – TO 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’éc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v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éc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v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écr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v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écri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y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écri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y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écri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2:54:05Z</dcterms:created>
  <dc:creator>Biega, Sarah</dc:creator>
  <dc:description/>
  <dc:language>en-US</dc:language>
  <cp:lastModifiedBy>Biega, Sarah</cp:lastModifiedBy>
  <dcterms:modified xsi:type="dcterms:W3CDTF">2012-09-18T20:00:57Z</dcterms:modified>
  <cp:revision>5</cp:revision>
  <dc:subject/>
  <dc:title>Les Verbes Irréguliers</dc:title>
</cp:coreProperties>
</file>